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FE8C-5A2A-41F9-AFAA-C51DD776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16F-B16A-410E-B582-D47AB901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 should introduce him/herself to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the group about travel experience, language skills, goals and objectives for the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8FDF-CA9F-4B26-9412-08D1147E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90D-6679-48DC-8510-AF7A9FF9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F0C8-2D79-443C-90F9-F1635335C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D38-7BE8-4BD5-AD23-3ACCFC136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8DD-2A12-4786-AD32-7AAA4EB4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 Tour Managers are highly trained, multilingual guide, educators and travel experts who provides educational commentary, activities and manages travel log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excursions such a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mprehensive walking tours and Cultural Connection activit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b Loss Protection for all participants and their famil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21AA-EAC7-42D3-99E6-412D3005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costs associated with the 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2D77-8C07-4E95-805B-4C69EB27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Automatic Payments: FREE enrollment, avoid late fees, 24/7 control over your trip, budget and scheduled payments, even payment amounts over a longer period of time, last payment to be processed as late as 45 days before depar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select a frequency of every 2 weeks, 4 weeks, monthly, or quart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onus: All participants who enroll in Automatic Payments are entered into our contest to win a free tri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ACD-B74C-4EE7-9E28-12C18F99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ripStream and how participants can us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AD8A-29FC-488E-BB86-2D2793D8A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rocedure for registering for the tour.  Trip Site is accessible from acis.com home page “Find Your Trip” fe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people to apply for their passports right away.  Ask if anyone has addition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$195 includes $95 Registration Fee plus a $100 program fee deposit and is due at sign-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Accounts allows you to access automatic payments or manual payments, protection plans and trip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.com is a great resource for pre-tri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eparation, what to expect on tour, fundraising suggestions, travel resources, contests, scholarships and mor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02E7-0431-4265-903B-B599FB15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everyone has the ACIS and Group Leader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8CBE-F9C2-4365-949B-2C4FE82B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 about how travel changes l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IS tour will add to student’s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 trips can be a great topic for college essays as well as a precursor for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EB1-2852-4096-9E7F-A991E115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ly located hotels saves travel time allowing for more time to experience your dest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new foods is a key part of the travel experience and will take your tour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clusions means less of a burden on your wallet while on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al connections transform students into global citizens though unique hands-on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918-F0A6-48CA-B50B-F67F3F5E8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S offices in London, Paris, Madrid, and Rome and our affiliate partner offices in other major destination cities ensure that there is on-the-ground support when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46C-BDA3-4E69-9F17-05E1A24E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05A1-461C-45F9-8832-774A4428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60F1-AB48-451B-9002-F20BD22A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31DF-53E4-47B2-911B-E2EE1D81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EA8-ABB7-49A8-9AB6-D2468797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itine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822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519800"/>
            <a:ext cx="822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76228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76228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51980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51980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519800"/>
            <a:ext cx="264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7622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0080" y="221760"/>
            <a:ext cx="9144000" cy="25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51980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080" y="1735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762280"/>
            <a:ext cx="40158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519800"/>
            <a:ext cx="8229600" cy="16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080" y="22176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622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acis.com/autopay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cis.com/tripstream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acis.com/webimages/PROD/2012/92319/FULFILL/811707_glossy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32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2" descr="CDZ_Cote_d_Azur_Boats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6: Ni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04640" y="5146560"/>
            <a:ext cx="82486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visit Aigues-Mortes before continuing on to Nice, the Côte d’ Azur’s cosmopolitan capita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CDZ_Cote_d_Azur_002"/>
          <p:cNvPicPr/>
          <p:nvPr/>
        </p:nvPicPr>
        <p:blipFill>
          <a:blip r:embed="rId1"/>
          <a:stretch/>
        </p:blipFill>
        <p:spPr>
          <a:xfrm>
            <a:off x="0" y="0"/>
            <a:ext cx="9144000" cy="4516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7: Ni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63680" y="5008680"/>
            <a:ext cx="82486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St. Paul de Vence, home of painter Marc Chag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to Nice and join local experts in a French game of pétanqu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Eze_Coastal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8: Ni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33440" y="4921200"/>
            <a:ext cx="82486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ursion to 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onard Perfume 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Depart-for-USA"/>
          <p:cNvPicPr/>
          <p:nvPr/>
        </p:nvPicPr>
        <p:blipFill>
          <a:blip r:embed="rId1"/>
          <a:stretch/>
        </p:blipFill>
        <p:spPr>
          <a:xfrm>
            <a:off x="0" y="-15732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9: Depart for the USA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5857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home with incredible memories, experiences and stories and almost certainly a desire to travel 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What's-Included"/>
          <p:cNvPicPr/>
          <p:nvPr/>
        </p:nvPicPr>
        <p:blipFill>
          <a:blip r:embed="rId1"/>
          <a:stretch/>
        </p:blipFill>
        <p:spPr>
          <a:xfrm>
            <a:off x="0" y="0"/>
            <a:ext cx="9144000" cy="3556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What’s Included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3360" y="3619080"/>
            <a:ext cx="831528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-trip f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IS Tour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ily continental breakfasts and din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modations in three- and four-star conveniently located hot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 transportation and airport trans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ursions and activities as indicated in your tour itine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Protection Plan which provides medical coverage and cancellation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ctr">
              <a:lnSpc>
                <a:spcPct val="12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rehensive &amp; Ultimate Protection Plans available for purc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-hour global support network and on-call emergency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-203040"/>
            <a:ext cx="9144000" cy="1233360"/>
          </a:xfrm>
          <a:prstGeom prst="rect">
            <a:avLst/>
          </a:prstGeom>
          <a:solidFill>
            <a:srgbClr val="1a1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6321600"/>
            <a:ext cx="9144000" cy="536400"/>
          </a:xfrm>
          <a:prstGeom prst="rect">
            <a:avLst/>
          </a:prstGeom>
          <a:solidFill>
            <a:srgbClr val="1a1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66560" y="1181160"/>
            <a:ext cx="8255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F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3,259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F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Registration Disc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Departure Fe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5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October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v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-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 3,6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/Optional fe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lt Sur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Room Supp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Room Supp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2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graded Protection Pl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2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ehensive Protection Pl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 Tour Eiffel Dinner w/Illumination Dr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1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mmended Tip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r manag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5 per person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 dri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3 per person/day a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77840" y="6469200"/>
            <a:ext cx="7450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** Please note: Price is valid until October 1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, 2011 with $195 depos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79520" y="268596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6" descr="Auto-Payment-Plan"/>
          <p:cNvPicPr/>
          <p:nvPr/>
        </p:nvPicPr>
        <p:blipFill>
          <a:blip r:embed="rId1"/>
          <a:stretch/>
        </p:blipFill>
        <p:spPr>
          <a:xfrm>
            <a:off x="0" y="0"/>
            <a:ext cx="9144000" cy="4444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Automatic Payments Plan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9200" y="5220360"/>
            <a:ext cx="78789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7760" indent="-34776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payment frequency and your payments are automatically deducted from your checking or savings accou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ign up or to learn more, visit </a:t>
            </a:r>
            <a:r>
              <a:rPr b="0" lang="en-US" sz="1600" spc="-1" strike="noStrike" u="sng">
                <a:solidFill>
                  <a:srgbClr val="e68900"/>
                </a:solidFill>
                <a:uFillTx/>
                <a:latin typeface="Arial"/>
                <a:hlinkClick r:id="rId2"/>
              </a:rPr>
              <a:t>www.acis.com/autop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Monthly Cost = $ $4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33360" y="4603680"/>
            <a:ext cx="831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the hassle out of planning your trip budget by spreading out your payments evenly, giving you more time to p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2000" y="2168640"/>
            <a:ext cx="365112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other groups who have taken the same 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your family and friends along with you as ‘virtual’ guests!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our Manager will be posting updates dai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your photos, videos and stories with other ACIS travelers like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76120" y="1771560"/>
            <a:ext cx="3338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68900"/>
                </a:solidFill>
                <a:uFillTx/>
                <a:latin typeface="Arial Bold"/>
                <a:hlinkClick r:id="rId1"/>
              </a:rPr>
              <a:t>www.acis.com/trip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Tripstreamlogo"/>
          <p:cNvPicPr/>
          <p:nvPr/>
        </p:nvPicPr>
        <p:blipFill>
          <a:blip r:embed="rId2"/>
          <a:srcRect l="16768" t="11405" r="17155" b="18904"/>
          <a:stretch/>
        </p:blipFill>
        <p:spPr>
          <a:xfrm>
            <a:off x="347760" y="125280"/>
            <a:ext cx="2909880" cy="9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TripStream"/>
          <p:cNvPicPr/>
          <p:nvPr/>
        </p:nvPicPr>
        <p:blipFill>
          <a:blip r:embed="rId3"/>
          <a:stretch/>
        </p:blipFill>
        <p:spPr>
          <a:xfrm>
            <a:off x="4361040" y="1077840"/>
            <a:ext cx="45766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Next-Steps"/>
          <p:cNvPicPr/>
          <p:nvPr/>
        </p:nvPicPr>
        <p:blipFill>
          <a:blip r:embed="rId1"/>
          <a:stretch/>
        </p:blipFill>
        <p:spPr>
          <a:xfrm>
            <a:off x="0" y="0"/>
            <a:ext cx="9144000" cy="4241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8840" y="633744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? Conta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IS Client Servi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77-795-08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s@aci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our Group’s Trip Site: </a:t>
            </a:r>
            <a:r>
              <a:rPr b="0" lang="en-US" sz="1600" spc="-1" strike="noStrike" u="sng">
                <a:solidFill>
                  <a:srgbClr val="e68900"/>
                </a:solidFill>
                <a:uFillTx/>
                <a:latin typeface="Arial"/>
                <a:hlinkClick r:id="rId2"/>
              </a:rPr>
              <a:t>Ms. Dawn Davis Group # 504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 online from there</a:t>
            </a: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send in the registration form and a deposit  of $1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Protection Plan and get your travel documents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5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1" lang="en-US" sz="1600" spc="-1" strike="noStrike" u="sng">
                <a:solidFill>
                  <a:srgbClr val="daa100"/>
                </a:solidFill>
                <a:uFillTx/>
                <a:latin typeface="Arial"/>
              </a:rPr>
              <a:t>your acc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view your personal inform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34880" y="43750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1f61"/>
                </a:solidFill>
                <a:latin typeface="Arial"/>
              </a:rPr>
              <a:t>www.acis.com For All Your Answ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2" descr="back-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0" descr="Why-Travel"/>
          <p:cNvPicPr/>
          <p:nvPr/>
        </p:nvPicPr>
        <p:blipFill>
          <a:blip r:embed="rId1"/>
          <a:stretch/>
        </p:blipFill>
        <p:spPr>
          <a:xfrm>
            <a:off x="0" y="0"/>
            <a:ext cx="9144000" cy="5846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Why Travel?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" y="5944680"/>
            <a:ext cx="9171000" cy="7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592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ledge • Discovery • Curiosity • Memories • Friendships • Fu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47" descr="Why-ACIS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5851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3040" y="5784840"/>
            <a:ext cx="872496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eyond Educational, This is Exception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ality Hotels • Local Food • Cultural Connection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ing Objectives • More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Why an ACIS tour?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Text Box 1037"/>
          <p:cNvSpPr/>
          <p:nvPr/>
        </p:nvSpPr>
        <p:spPr>
          <a:xfrm>
            <a:off x="4203720" y="4361040"/>
            <a:ext cx="60260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9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d their ACIS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Peace-of-Mind"/>
          <p:cNvPicPr/>
          <p:nvPr/>
        </p:nvPicPr>
        <p:blipFill>
          <a:blip r:embed="rId1"/>
          <a:stretch/>
        </p:blipFill>
        <p:spPr>
          <a:xfrm>
            <a:off x="0" y="0"/>
            <a:ext cx="9339120" cy="5850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233280" y="5985000"/>
            <a:ext cx="97264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seas offices • 24/7 Coverage • Division of AIFS • Included insurance • Job Loss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Peace of Mind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Day-1"/>
          <p:cNvPicPr/>
          <p:nvPr/>
        </p:nvPicPr>
        <p:blipFill>
          <a:blip r:embed="rId1"/>
          <a:stretch/>
        </p:blipFill>
        <p:spPr>
          <a:xfrm>
            <a:off x="0" y="0"/>
            <a:ext cx="9144000" cy="3035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1: Overnight Flight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774960" y="3451320"/>
            <a:ext cx="5181840" cy="22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 from the USA |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n Voy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for takeoff as your unforgettable journey is about to begin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p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ep on the plane. You’ll want to be rested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first day abro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PCA2012"/>
          <p:cNvPicPr/>
          <p:nvPr/>
        </p:nvPicPr>
        <p:blipFill>
          <a:blip r:embed="rId2"/>
          <a:stretch/>
        </p:blipFill>
        <p:spPr>
          <a:xfrm>
            <a:off x="368280" y="3246480"/>
            <a:ext cx="32716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aris_city_skyline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2: Pari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6320" y="5073120"/>
            <a:ext cx="748980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 in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 your ACIS Tour Manager and begin to take in the best of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38680" y="1943280"/>
            <a:ext cx="44053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aris_Arc_de_Triomphe_Flag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3: Pari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31840" y="5067360"/>
            <a:ext cx="86961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ning sightseeing tour shows you sights from Notre Dame to the Arc de Triomphe, including a photo stop in front of the Eiffel To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noon tour of the Louvre followed by hands-on instruction on how to make traditional French cuisine during a Cooking Le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Eiffel-Tower-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4: Paris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47840" y="5153040"/>
            <a:ext cx="811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a morning stroll through Louis XIV’s Palace at Versai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orning may instead visit the beautiful gardens in Giv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oy an evening of magnificent views from the Eiffel Tower’s third flo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Provence_Pont_du_Gard_001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Day 5: TGV-Provence</a:t>
            </a:r>
            <a:endParaRPr b="1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47840" y="5153040"/>
            <a:ext cx="82483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urney to Avignon and see the Papal Palace and nearby Pont du G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to Nimes to see the Roman Are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20:07:58Z</dcterms:created>
  <dc:creator>fvanhouten1</dc:creator>
  <dc:description/>
  <dc:language>en-US</dc:language>
  <cp:lastModifiedBy>dmdavis</cp:lastModifiedBy>
  <dcterms:modified xsi:type="dcterms:W3CDTF">2011-09-20T11:10:27Z</dcterms:modified>
  <cp:revision>320</cp:revision>
  <dc:subject/>
  <dc:title>Slide 1</dc:title>
</cp:coreProperties>
</file>